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50A-7278-4CC1-AE1C-F0D207D7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D64-B13C-4622-B903-DFEF8E1B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1CE-2F26-4328-BDE7-A54ADABA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B11-6C0D-44E5-A788-488574C6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61C-C716-4E15-A3C0-59103F6B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763-7299-4E57-9A2A-67646DC2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2F8-2546-4AD7-BB3D-D763391E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7CA-AA1B-4283-90EE-B6745970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73B-EED2-4869-B9DD-CEEAE5EC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0E5-34DA-40BC-9737-1A9DC673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223-7734-44BD-8214-0734085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AFE-6789-4801-A901-D8985D2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8635-ACFD-4CE6-B359-3B1314876D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101" descr="IMG0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097"/>
          <p:cNvSpPr/>
          <p:nvPr/>
        </p:nvSpPr>
        <p:spPr>
          <a:xfrm>
            <a:off x="703440" y="4022640"/>
            <a:ext cx="76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出师一表真名世，千载谁堪伯仲间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三顾频烦天下计，两朝开济老臣心。出师未捷身先死，长使英雄泪满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"/>
          <p:cNvSpPr/>
          <p:nvPr/>
        </p:nvSpPr>
        <p:spPr>
          <a:xfrm>
            <a:off x="623880" y="636480"/>
            <a:ext cx="829296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与时 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驰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   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意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与日  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遂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成 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枯落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多不接世，悲守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穷庐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复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何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1490760" y="1222200"/>
            <a:ext cx="35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疾行，指迅速老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5326920" y="122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意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4"/>
          <p:cNvSpPr/>
          <p:nvPr/>
        </p:nvSpPr>
        <p:spPr>
          <a:xfrm>
            <a:off x="7604280" y="1222200"/>
            <a:ext cx="108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消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5"/>
          <p:cNvSpPr/>
          <p:nvPr/>
        </p:nvSpPr>
        <p:spPr>
          <a:xfrm>
            <a:off x="573120" y="3241800"/>
            <a:ext cx="9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最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6"/>
          <p:cNvSpPr/>
          <p:nvPr/>
        </p:nvSpPr>
        <p:spPr>
          <a:xfrm>
            <a:off x="2025720" y="32367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凋落，衰残。比喻人年老志衰，没有用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7"/>
          <p:cNvSpPr/>
          <p:nvPr/>
        </p:nvSpPr>
        <p:spPr>
          <a:xfrm>
            <a:off x="6902280" y="3241800"/>
            <a:ext cx="21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穷困潦倒之人住的陋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8"/>
          <p:cNvSpPr/>
          <p:nvPr/>
        </p:nvSpPr>
        <p:spPr>
          <a:xfrm>
            <a:off x="1135080" y="5159520"/>
            <a:ext cx="5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9"/>
          <p:cNvSpPr/>
          <p:nvPr/>
        </p:nvSpPr>
        <p:spPr>
          <a:xfrm>
            <a:off x="2363760" y="5108400"/>
            <a:ext cx="20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来得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10"/>
          <p:cNvSpPr/>
          <p:nvPr/>
        </p:nvSpPr>
        <p:spPr>
          <a:xfrm>
            <a:off x="528480" y="1835280"/>
            <a:ext cx="80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年纪随时光而疾速逝去，意志随岁月而消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11"/>
          <p:cNvSpPr/>
          <p:nvPr/>
        </p:nvSpPr>
        <p:spPr>
          <a:xfrm>
            <a:off x="528480" y="391320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最终年老志衰，大多对社会没有什么贡献，只能悲哀地坐守着那穷困的屋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12"/>
          <p:cNvSpPr/>
          <p:nvPr/>
        </p:nvSpPr>
        <p:spPr>
          <a:xfrm>
            <a:off x="573120" y="554976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那时再悔恨又怎么来得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"/>
          <p:cNvSpPr/>
          <p:nvPr/>
        </p:nvSpPr>
        <p:spPr>
          <a:xfrm>
            <a:off x="2986200" y="222120"/>
            <a:ext cx="460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问题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2"/>
          <p:cNvSpPr/>
          <p:nvPr/>
        </p:nvSpPr>
        <p:spPr>
          <a:xfrm>
            <a:off x="279360" y="104472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诸葛亮写这封信的用意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文章主要从哪两个方面进行分析论述，文中表明作者观点的句子又是怎样展开论述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君子之行……无以致远。”这句话的核心是一个“静”字。“俭以养德”与“静”有何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诸葛亮围绕学习告诫儿子，要成才须要具备的条件是什么？这几个条件之间有什么关系？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9217"/>
          <p:cNvSpPr/>
          <p:nvPr/>
        </p:nvSpPr>
        <p:spPr>
          <a:xfrm>
            <a:off x="179280" y="917640"/>
            <a:ext cx="889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诸葛亮写这封信的用意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9221"/>
          <p:cNvSpPr/>
          <p:nvPr/>
        </p:nvSpPr>
        <p:spPr>
          <a:xfrm>
            <a:off x="270000" y="18921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诸葛亮写这封信的用意是告诫儿子要修身养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生活节俭，以此来培养自己的品德，并注意珍惜光阴，勉励他刻苦学习。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7169"/>
          <p:cNvSpPr/>
          <p:nvPr/>
        </p:nvSpPr>
        <p:spPr>
          <a:xfrm>
            <a:off x="0" y="76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文章主要从哪两个方面进行分析论述，文中表明作者观点的句子又是怎样展开论述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717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文章从修身和治学两个方面进行论述，无论是学习还是做人，作者强调的是一个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静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字：修身须要静，学习须要静。把失败归结为一个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躁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字，把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静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与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躁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进行对比，增强了论述效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0241"/>
          <p:cNvSpPr/>
          <p:nvPr/>
        </p:nvSpPr>
        <p:spPr>
          <a:xfrm>
            <a:off x="395280" y="411120"/>
            <a:ext cx="84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君子之行，静以修身，俭以养德，非淡泊无以明志，非宁静无以致远。”这句话的核心是一个“静”字。“俭以养德”与“静”有何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10244"/>
          <p:cNvSpPr/>
          <p:nvPr/>
        </p:nvSpPr>
        <p:spPr>
          <a:xfrm>
            <a:off x="395280" y="3068640"/>
            <a:ext cx="874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因为节俭方可清心寡欲，避免浪费。这就要求人们的内心世界始终保持宁静，不会为贪图丰厚的物质享受而分神劳力。“俭以养德”是建立在“静”的基础上的美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22530"/>
          <p:cNvSpPr/>
          <p:nvPr/>
        </p:nvSpPr>
        <p:spPr>
          <a:xfrm>
            <a:off x="411120" y="6462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诸葛亮围绕学习告诫儿子，要成才须要具备的条件是什么？这几个条件之间有什么关系？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22531"/>
          <p:cNvSpPr/>
          <p:nvPr/>
        </p:nvSpPr>
        <p:spPr>
          <a:xfrm>
            <a:off x="0" y="227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矩形 22534"/>
          <p:cNvSpPr/>
          <p:nvPr/>
        </p:nvSpPr>
        <p:spPr>
          <a:xfrm>
            <a:off x="411120" y="2733840"/>
            <a:ext cx="83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成才必须具备三个基本条件：立志、学习、惜时。诸葛亮主张以俭养德、以静求学、以学广才，这三者是缺一不可的。志是成才的前提和基础，但志向的培养又必须修养道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26628"/>
          <p:cNvSpPr/>
          <p:nvPr/>
        </p:nvSpPr>
        <p:spPr>
          <a:xfrm>
            <a:off x="244440" y="768240"/>
            <a:ext cx="87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A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楷体"/>
                <a:ea typeface="楷体"/>
              </a:rPr>
              <a:t>淡泊：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苟利国家，不求富贵（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礼记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）；不戚戚于贫贱，不汲汲于富贵（陶渊明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水能性淡为吾友，竹解心虚即我师（白居易）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;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心闲天地本来宽。（陆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B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楷体"/>
                <a:ea typeface="楷体"/>
              </a:rPr>
              <a:t>立志：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古之成大事者不惟有超世之材，亦有坚忍不拔之志（苏轼）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长风破浪会有时，直挂云帆济沧海（李白）；安得广厦千万间，大庇天下寒士俱欢颜；（杜甫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穷且益坚，不坠青云之志（王勃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2293" descr="IMG0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图片 12291" descr="澹泊明志2"/>
          <p:cNvPicPr/>
          <p:nvPr/>
        </p:nvPicPr>
        <p:blipFill>
          <a:blip r:embed="rId2"/>
          <a:stretch/>
        </p:blipFill>
        <p:spPr>
          <a:xfrm>
            <a:off x="-192240" y="0"/>
            <a:ext cx="9336240" cy="37083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2292" descr="宁静致远"/>
          <p:cNvPicPr/>
          <p:nvPr/>
        </p:nvPicPr>
        <p:blipFill>
          <a:blip r:embed="rId3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058" descr="IMG0012"/>
          <p:cNvPicPr/>
          <p:nvPr/>
        </p:nvPicPr>
        <p:blipFill>
          <a:blip r:embed="rId1"/>
          <a:stretch/>
        </p:blipFill>
        <p:spPr>
          <a:xfrm>
            <a:off x="0" y="17640"/>
            <a:ext cx="9941040" cy="10186920"/>
          </a:xfrm>
          <a:prstGeom prst="rect">
            <a:avLst/>
          </a:prstGeom>
          <a:ln w="0">
            <a:noFill/>
          </a:ln>
        </p:spPr>
      </p:pic>
      <p:sp>
        <p:nvSpPr>
          <p:cNvPr id="44" name="矩形 2052"/>
          <p:cNvSpPr txBox="1"/>
          <p:nvPr/>
        </p:nvSpPr>
        <p:spPr>
          <a:xfrm>
            <a:off x="7066080" y="28702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c00000"/>
                </a:solidFill>
                <a:latin typeface="楷体"/>
              </a:rPr>
              <a:t>诸葛亮</a:t>
            </a:r>
            <a:endParaRPr b="1" lang="en-US" sz="2400" spc="1" strike="noStrike">
              <a:ln w="0">
                <a:noFill/>
              </a:ln>
              <a:solidFill>
                <a:srgbClr val="c00000"/>
              </a:solidFill>
              <a:latin typeface="楷体"/>
              <a:ea typeface="楷体"/>
            </a:endParaRPr>
          </a:p>
        </p:txBody>
      </p:sp>
      <p:sp>
        <p:nvSpPr>
          <p:cNvPr id="45" name="矩形 2056"/>
          <p:cNvSpPr txBox="1"/>
          <p:nvPr/>
        </p:nvSpPr>
        <p:spPr>
          <a:xfrm>
            <a:off x="5435640" y="836640"/>
            <a:ext cx="295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楷体"/>
              </a:rPr>
              <a:t>诫子书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楷体"/>
              <a:ea typeface="楷体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146160" y="111888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诸葛亮（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181—234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），字孔明，琅琊阳都（今山东省沂水县）人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三国时期著名的政治家、军事家。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为避汉末之乱，大约于汉献帝兴平二年（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195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）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15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岁时随叔父诸葛玄由山东迁居豫章，后辗转至荆州，隐居于南阳隆中，故号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卧龙先生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。西晋陈寿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三国志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有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诸葛亮传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，并整理其诗文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诸葛亮集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传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601560" y="301680"/>
            <a:ext cx="454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30722"/>
          <p:cNvSpPr/>
          <p:nvPr/>
        </p:nvSpPr>
        <p:spPr>
          <a:xfrm>
            <a:off x="250920" y="836640"/>
            <a:ext cx="818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  </a:t>
            </a:r>
            <a:r>
              <a:rPr b="1" sz="4000" spc="-1" strike="noStrike">
                <a:solidFill>
                  <a:srgbClr val="800000"/>
                </a:solidFill>
                <a:latin typeface="楷体"/>
                <a:ea typeface="楷体"/>
              </a:rPr>
              <a:t>收二川，排八阵，六出七擒，五丈原前，点三十九盏明灯，一心只为酬三顾。 </a:t>
            </a:r>
            <a:br>
              <a:rPr sz="4000"/>
            </a:br>
            <a:r>
              <a:rPr b="1" sz="4000" spc="-1" strike="noStrike">
                <a:solidFill>
                  <a:srgbClr val="800000"/>
                </a:solidFill>
                <a:latin typeface="楷体"/>
                <a:ea typeface="楷体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800000"/>
                </a:solidFill>
                <a:latin typeface="楷体"/>
                <a:ea typeface="楷体"/>
              </a:rPr>
              <a:t>    </a:t>
            </a:r>
            <a:r>
              <a:rPr b="1" sz="4000" spc="-1" strike="noStrike">
                <a:solidFill>
                  <a:srgbClr val="800000"/>
                </a:solidFill>
                <a:latin typeface="楷体"/>
                <a:ea typeface="楷体"/>
              </a:rPr>
              <a:t>取西蜀，定南蛮，东和北拒，中军帐里，变金木土爻神卦，水面偏能用火攻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04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诸葛亮在政治、军事上计谋超群，对后代的教育问题也十分重视。诸葛亮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病逝五丈原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军中的前夕，还写信给诸葛瑾：“瞻今已八岁，聪慧可爱，嫌其早成，恐不为重器耳。”同时写下了流传百世的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诫子书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。他在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诫子书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中告诫儿子，“静以修身，俭以养德”，淡泊明志，宁静致远，学以广才，励精治性，珍惜光阴，务求“接世”。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年后，邓艾率魏军攻蜀，兵至绵竹，诸葛瞻拒不接受邓艾的高官诱降，英勇战死，时年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37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岁。其子诸葛尚一同战死，时年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16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21509"/>
          <p:cNvSpPr/>
          <p:nvPr/>
        </p:nvSpPr>
        <p:spPr>
          <a:xfrm>
            <a:off x="973080" y="190440"/>
            <a:ext cx="43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背景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6387"/>
          <p:cNvSpPr/>
          <p:nvPr/>
        </p:nvSpPr>
        <p:spPr>
          <a:xfrm>
            <a:off x="395280" y="2205000"/>
            <a:ext cx="3484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夫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淡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淫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16394"/>
          <p:cNvSpPr/>
          <p:nvPr/>
        </p:nvSpPr>
        <p:spPr>
          <a:xfrm>
            <a:off x="1505160" y="527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读准字音，熟读成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2352600" y="2205000"/>
            <a:ext cx="74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Times New Roman"/>
              </a:rPr>
              <a:t>                          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fú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     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dàn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bó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     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yín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     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suì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     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lú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7409"/>
          <p:cNvSpPr/>
          <p:nvPr/>
        </p:nvSpPr>
        <p:spPr>
          <a:xfrm>
            <a:off x="2532240" y="84456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"/>
                <a:ea typeface="楷体"/>
              </a:rPr>
              <a:t>   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诫子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17410"/>
          <p:cNvSpPr/>
          <p:nvPr/>
        </p:nvSpPr>
        <p:spPr>
          <a:xfrm>
            <a:off x="755640" y="1905120"/>
            <a:ext cx="7550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夫君子之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静以修身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俭以养德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非淡泊无以明志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非宁静无以致远。夫学须静也，才须学也。非学无以广才，非志无以成学。淫慢则不能励精，险躁则不能治性。年与时驰，意与日去，遂成枯落，多不接世，悲守穷庐，将复何及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矩形 17411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矩形 17412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矩形 17413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442800" y="1996920"/>
            <a:ext cx="8521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夫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君子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之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静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以修身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俭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以养德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非淡泊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无以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明志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非宁静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无以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致远。夫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学须静也，才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须学也。非学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无以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广才，非志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无以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成学。淫慢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则不能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励精，险躁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则不能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性。年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与时驰，意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与日去，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成枯落，多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接世，悲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穷庐，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复何及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1"/>
          <p:cNvSpPr/>
          <p:nvPr/>
        </p:nvSpPr>
        <p:spPr>
          <a:xfrm>
            <a:off x="417600" y="1817640"/>
            <a:ext cx="822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夫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君子之行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静     以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修身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俭以养德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非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淡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无以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明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志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非宁静无以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致    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17409"/>
          <p:cNvSpPr/>
          <p:nvPr/>
        </p:nvSpPr>
        <p:spPr>
          <a:xfrm>
            <a:off x="2436840" y="3175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诫  子  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2"/>
          <p:cNvSpPr/>
          <p:nvPr/>
        </p:nvSpPr>
        <p:spPr>
          <a:xfrm>
            <a:off x="2095560" y="1055520"/>
            <a:ext cx="26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告诫，劝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5611680" y="98748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书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311040" y="2371680"/>
            <a:ext cx="38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fú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句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语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2001960" y="2371680"/>
            <a:ext cx="24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屏除杂念和干扰，宁静专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6"/>
          <p:cNvSpPr/>
          <p:nvPr/>
        </p:nvSpPr>
        <p:spPr>
          <a:xfrm>
            <a:off x="4952880" y="245916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用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7"/>
          <p:cNvSpPr/>
          <p:nvPr/>
        </p:nvSpPr>
        <p:spPr>
          <a:xfrm>
            <a:off x="-122400" y="3316320"/>
            <a:ext cx="96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君子的行为操守，以宁静来修养身心，以节俭来培养品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8"/>
          <p:cNvSpPr/>
          <p:nvPr/>
        </p:nvSpPr>
        <p:spPr>
          <a:xfrm>
            <a:off x="3008160" y="448632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明确，坚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9"/>
          <p:cNvSpPr/>
          <p:nvPr/>
        </p:nvSpPr>
        <p:spPr>
          <a:xfrm>
            <a:off x="6377040" y="457200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到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10"/>
          <p:cNvSpPr/>
          <p:nvPr/>
        </p:nvSpPr>
        <p:spPr>
          <a:xfrm>
            <a:off x="7429680" y="44863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远大目标，形作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11"/>
          <p:cNvSpPr/>
          <p:nvPr/>
        </p:nvSpPr>
        <p:spPr>
          <a:xfrm>
            <a:off x="34920" y="525636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不能淡泊自守，就无法明确志向，不能宁静专一，就无法达到远大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13"/>
          <p:cNvSpPr/>
          <p:nvPr/>
        </p:nvSpPr>
        <p:spPr>
          <a:xfrm>
            <a:off x="523800" y="457992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内心恬淡，不慕名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1"/>
          <p:cNvSpPr/>
          <p:nvPr/>
        </p:nvSpPr>
        <p:spPr>
          <a:xfrm>
            <a:off x="539640" y="720720"/>
            <a:ext cx="8315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夫学须静也，才须学也。非学无以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广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非志无以成学。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淫慢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则不能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励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险躁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则不能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治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2"/>
          <p:cNvSpPr/>
          <p:nvPr/>
        </p:nvSpPr>
        <p:spPr>
          <a:xfrm>
            <a:off x="6146640" y="1279440"/>
            <a:ext cx="31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增长，形作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3733920" y="3333600"/>
            <a:ext cx="19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放纵懈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7135920" y="3333600"/>
            <a:ext cx="20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振奋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5"/>
          <p:cNvSpPr/>
          <p:nvPr/>
        </p:nvSpPr>
        <p:spPr>
          <a:xfrm>
            <a:off x="320760" y="53593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轻薄浮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6"/>
          <p:cNvSpPr/>
          <p:nvPr/>
        </p:nvSpPr>
        <p:spPr>
          <a:xfrm>
            <a:off x="3940200" y="534996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修养性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7"/>
          <p:cNvSpPr/>
          <p:nvPr/>
        </p:nvSpPr>
        <p:spPr>
          <a:xfrm>
            <a:off x="546120" y="1955880"/>
            <a:ext cx="84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学习必须静心专一，而才干来自于学习。不学习就无法增长才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8"/>
          <p:cNvSpPr/>
          <p:nvPr/>
        </p:nvSpPr>
        <p:spPr>
          <a:xfrm>
            <a:off x="546120" y="3851280"/>
            <a:ext cx="84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不定下志向就无法学有所成。放纵懈怠就无法振作精神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9"/>
          <p:cNvSpPr/>
          <p:nvPr/>
        </p:nvSpPr>
        <p:spPr>
          <a:xfrm>
            <a:off x="450720" y="5869080"/>
            <a:ext cx="89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轻薄浮躁就不能修养性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11-05T23:45:03Z</dcterms:modified>
  <cp:revision>1</cp:revision>
  <dc:subject/>
  <dc:title>PowerPoint 演示文稿</dc:title>
</cp:coreProperties>
</file>